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3E922-6485-46E7-8D4A-9E91238409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B96C9-10BC-4934-9BA5-740E5DBD5F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B4D27-B553-4CF4-9475-B5F0307ABF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46CC-5409-447E-A3F3-4FB1AB239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128D9-4434-456F-AA29-BC9430FAF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6A2D-01EE-45B5-8AFF-5EB5C7764D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B3560-03D5-4BFC-B571-2EB2AD63E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118CF-C77F-4376-BCEE-F1881842DA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BB92E-8011-479B-B88D-2A248DACEE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5EFB-5552-4E37-9A73-D3B9F884F6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23AD-F40B-4E1C-AD13-65FE495F1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C65F7-10EC-46C7-B92C-088E0127B7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594-B3DE-474C-A5E8-7118D010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782-41CD-4E55-8565-E1F8BE83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A5A6-3D3C-4D72-8F27-A6A9DB5F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B7254-67A7-4218-8189-70EA1DF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228FA-13EE-4F94-A75A-5B9FC7AF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A790A-7D95-48C0-BD1F-F814271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BE884-8642-400B-9C21-82F4D56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1E6B-8C73-47EA-8015-B0B894D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22A0-BDBC-4707-ACA9-44C1883B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B544-FB4A-4B31-B65F-945485E6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1953-91F2-499B-A2AE-491F2505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867-145E-4E29-9277-AE7B1EA3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453-3B48-4C5D-BFC6-A769A744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9F75-D0D1-4C20-B781-C69B600D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27E-D804-4812-BDB7-39301A4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5CEC-1C26-43A6-B4BB-9592234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C55C-2D7D-467D-8EF0-2EFA8BC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1B1-0959-4865-9F7E-CBFDF9F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04C8-8949-428E-82AC-8012E5BC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00BC-7F56-4C9A-82BA-510F1CF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F83-2308-4990-AF35-AFE4E35F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72C2-DD2C-436B-8D85-844ED4A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BCE-99B7-41D4-A617-29E09CA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FD68-D1AD-4F2A-9365-AFC3887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5031-E08C-437C-9F2A-A09A8A61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93F-AA50-444C-AED0-AE9286C1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35D0-BC74-4657-96E9-1DC2BB5A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E7A4-71C6-4D25-B168-78487B3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2A20-407C-411F-AFD0-439BAA2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1730-02EF-4ABF-A6FE-E5B38FFF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3BC1-A3EF-44B5-980F-6C11462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D00-E3AE-4CA8-A5A6-7AA0CF8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1A79-1DDB-4EE6-896F-BD2C5576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98EC-B369-4668-A0AC-11062FD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122C-95C6-4563-97D3-94E954C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C709-AB48-4313-9BCB-6BE1CBE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C1E2-D50F-487E-B44C-A5F4F3AA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C560-BA75-4C20-A87D-4C5F3BD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AFF6-CCE1-4271-9815-3B49882C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C9A8-5C80-45CF-920B-460571BF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17B6-BCF6-404E-B6EF-C0DECFE9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E8EC-0FE1-4BE9-8565-5C6917E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6F6-086A-416B-BBEC-5E3F3C6D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1AF0-539D-4036-9B16-62599D2A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C3B1-476E-4D43-AF2D-A69D85D9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153E-07AC-4275-98EC-AAC9F7E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1D6D-4995-4543-8208-3F03CF7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2BE2-78FF-4555-845C-93AE41F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1FE2-7C2C-4EC1-B781-B801E15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293F-7BC0-43AB-89FE-2D2CF4F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F084-1EA1-4630-804D-844161F4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08251-A48C-4805-BDE2-65D7BD15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5208-AB8A-4570-A881-68CE56DE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546-7268-453A-BAC4-C54F438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056D-24A1-405E-82CF-0B3E9CA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90EB-4E5E-4F7E-8A65-847F34AF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B97B-FB27-4573-804A-2496B51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5E11-44C6-4CDF-80E8-6303F1BF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78DB-BEC3-4970-AE06-5034D250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6B2B-B423-457A-9F4F-6549ABF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A4E6-1173-435F-8600-0FC6C2A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6680-2266-48BB-8EBE-2BE289B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212F-B8D0-47DD-85DE-6809CA7E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FCE8-9BE9-4D75-98C2-E97C5201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DBB-DC44-4F17-8608-7ED4237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E402-5055-44E6-AFB8-AC852F38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D0B3-882B-4724-A2C7-468F19A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4604-1A44-482C-9D4C-0068ABD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003E4-6B9E-490F-8A34-BF512861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90D6-6D67-45A3-9C81-416443F5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6EB4-B921-4ABC-BE1C-AACDB27E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9578-708A-4029-9E24-5DBF13E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3518B-E4F4-4B0C-8639-44D0C589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CFE9-3AD0-46E6-ABA3-E259FBB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0D2B-F31C-45DB-B280-7A34E7E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FD7-7D99-4DB2-A50B-BE74825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CC67-31E0-4A96-8C73-CCA00B0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7F22-DBCF-484E-AAFA-FF0171E4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733BB-D654-4928-BB01-7910F4A1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DF32E-2F7D-437A-BAF8-E91742E7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96D1-30FC-4F59-BE44-48BDD98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FF6A-4564-4DEA-8350-51F4766B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DF48-DB2B-496E-9B36-67F0A77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3FCE-B23E-4B37-BEB7-EB8B6D5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DA7D-FC59-4B4E-89A4-F7A84774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A85A2-BB59-438F-81DB-23688CC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5B7-40BD-4830-9EBB-E5930A5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F9FB4-266D-4E6A-B829-D26A7D6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5A52-B5AD-480E-BF5F-BEE2B3E5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2BA9-2764-45A6-BBB9-21281BD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BD4E-742C-43D9-928B-A37B1384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685B3-37FF-4FBA-8CF0-39E3E76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84498-DE9E-4666-9313-EFE64ED2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2CC33-0C16-4125-B588-BC2C6DD8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D1CA5-4037-496B-8CEC-63B342E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374A-730B-4D6D-9C97-A7E82D4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081B8-F197-4B92-B970-051784D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E34-9633-49B6-B96E-15638F2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5385-5A13-445D-A41F-96AC20C5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AC3E4-C099-464E-B067-CBB61C9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B327F-B19F-47E9-88B8-E109986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2736-43DC-4298-BA63-DD59120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61262-543C-4967-8F22-1BE000DF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9E76-AFF1-4370-825B-6829A047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A3845-C12C-48DE-ADA6-08A73A1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68611-1B8F-4111-97E8-11F2BF5D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D69F7-CA00-4F38-9632-ECAA9B93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077C-933F-4674-A802-5CE7E3C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1D145-B1D5-4E22-9304-57C8459D455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DE3D5-2274-4F86-95BA-F54D81373AD7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89866-6B23-4E49-80D2-D071950118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320B0-9160-42E1-B835-4564455B2341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702A0-B526-4F9B-AD17-A487E06CE7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2123B-B6DC-45C7-BA74-2A2F62A100DA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11C54-A533-497B-827B-7C33997F6745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ACBB3-6FBC-4BC0-B0F7-16A8B4FDB01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35E6C-C93F-471A-94CD-446EAFBC92B5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A4A84-287A-4E39-9C11-635C798349B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8C4F8-C2A5-4B72-B0D1-748C4A35ED43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502920" y="1767960"/>
            <a:ext cx="9109080" cy="5888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M cells*100 layers, 16GB/variable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2920" y="176796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8-10-17T18:33:11Z</dcterms:modified>
  <cp:revision>12</cp:revision>
  <dc:subject/>
  <dc:title>Slide 1</dc:title>
</cp:coreProperties>
</file>